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412E-CC67-45F0-AF76-4097D479709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35B2-2512-48DF-842D-2F722FF659D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C6C-2991-4980-A33C-5F625A9F505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9F0B-877F-47BB-BBBB-B050D94B50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960-E772-4FCD-AD2D-56CFC2F803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EADD-1CA7-4D55-A60F-98DC20DD35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C53F-8517-48E9-9B33-B44CD9F602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EF88-0193-468D-8539-C3FEDD3B752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37E6-22F2-4FCB-8F24-DC151D6C30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F1B4-BA76-497E-B95E-A3B6ADB91C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1BCF-D404-4CA1-8D4A-C5F2DF4E2B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D53D-2ABC-429F-A006-5E8A1021913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850F-51EC-47E3-B0EE-7B73690533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341B-87DB-4B7B-8CB6-D9171AE1E0D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6BB2-E4F3-4E86-992C-0E986AD0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190F-72A6-4BE4-8181-C5AE9364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1583-3BBF-45C8-9234-946F7A49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B4D-8F5A-4C99-8175-BD40600C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30C9-0204-41B0-97CC-FB7B9CAC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3A44-B951-4006-A5E8-834ABA8F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B642-4384-4593-A0AC-F79DCB52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DDAC-8769-4AAC-A72B-BE4EC6C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623A-6B33-4EB1-AF8B-B51C230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09E3-5CA5-4242-87F5-1E5E446A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9576-32AA-4A42-BF87-6470AE4B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B93-7948-47A4-97CE-21EC7AF4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F6BE-5582-4C0F-ACB8-EC60E113A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10A97-9193-4D23-AB68-FA456123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92F5-9361-4CDE-83BF-6CDE7708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F84A-C103-44DB-BE7D-16413D5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A6600-0024-4A5B-9CCF-DFB7E26A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1533-4F64-46C2-9183-702746A8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D5D7-DCC2-4CE6-975E-1E5500E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30B97-4D51-4534-B34C-D5D017DC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7ABE0-3F71-4D84-8CA8-7CDDCECA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9628C-45BF-4413-AB89-4DE9B8BA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391F0-1C55-4D90-AF2C-9FCAF11B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69580-520E-4A0D-A605-16B4348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9520-41FC-4CF7-91C2-B2BF5918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B72BB-0EE0-4C80-806A-1FF47F57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3D3A-A3C7-493C-BBEF-81B8A84B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A009-9618-4F7D-A4E9-5983DF17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821C1-3656-4EE7-82F3-37A601BF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9D6E2-8AC8-4956-83D7-F1FD0AD0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0195-188B-4DC5-A847-747F9FAC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39E3E-9227-4568-9B9E-726B2F42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4E95-D588-4E7E-9E37-FC57BC5D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24EE3-8BEB-4574-8754-8EEB9901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B03B3-917F-462C-B903-0B109743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B7FD8-1600-4F32-AB85-AF4476D8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3DD4-5AC7-490E-B168-B24E4ED292A4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6639-0DEE-4661-BBA0-C332C98F9964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AF68-0722-4B19-9AC3-97B602F82B9B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17136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166212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395280" y="1662120"/>
            <a:ext cx="86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468360" y="2090880"/>
            <a:ext cx="83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44280" y="350676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1886040" y="3716280"/>
            <a:ext cx="70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kładanie wniosku w GWD dla fazy B+R i fazy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200" spc="-1" strike="noStrike">
                <a:solidFill>
                  <a:srgbClr val="00800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lipsa 10"/>
          <p:cNvSpPr/>
          <p:nvPr/>
        </p:nvSpPr>
        <p:spPr>
          <a:xfrm>
            <a:off x="108000" y="162864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rostokąt 2"/>
          <p:cNvSpPr/>
          <p:nvPr/>
        </p:nvSpPr>
        <p:spPr>
          <a:xfrm>
            <a:off x="2654280" y="1197000"/>
            <a:ext cx="6489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 znaczne zmniejszenie oddziaływania na środowisko rozumie się zmianę (zmniejszenie/ zwiększenie) w wysokości nie mniejszej niż 10% w stosunku do stanu sprzed realizacji projektu. Projekt wpisuje się w jeden z obszarów wymienionych poniże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oszczędność surowcową, w tym oszczędność wod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technologii mało- i bezodpadowych, w tym zmniejszenie ilości ściekó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ilości zanieczyszczeń odprowadzanych do atmosfer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gwarantujących zmniejszenie poziomu hała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wydłużających cykl życia produkt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stosowanie rozwiązań zmniejszających zużycie energ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ole tekstowe 3"/>
          <p:cNvSpPr/>
          <p:nvPr/>
        </p:nvSpPr>
        <p:spPr>
          <a:xfrm>
            <a:off x="14400" y="4713120"/>
            <a:ext cx="91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B+R nie wprowadzamy konieczności uzyskania efektu ekologicznego do umowy o dofinansowanie, określamy natomiast obszar w którym spodziewamy największego efektu, będącego jednocześnie największą przewagą konkurencyjną, uprawdopodabniamy możliwość jego osiągnięcia w porównaniu do szeroko stosowanych rozwiązań oraz sparametryzowaną metodologię jego obliczenia. Doprecyzowanie i ewentualnej parametryzacji efektu oczekuje się na końcowym etapie realizacji przedsięwzięcia w ramach fazy B+R, np. w Raporcie Końcowy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żliwość zastosowania wyników projektu w gospodarce lub ich innego praktycznego wykorzystan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siadanie odpowiednich zasobów materialnych i kadrowych niezbędnych do realizacj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winny zostać wskazane  rozwiązania alternatywne, które rozważano. Rozwiązaniem alternatywnym nie może być wyłącznie wariant „0”, jak również nie powinny to być przestarzałe lub funkcjonujące od lat rozwiązania – dla przedsięwzięcia innowacyjnego należy dokonywać analizy rozwiązań alternatywnych w obszarze nowoczesnych dostępnych rozwiązań w danej dziedzinie. Alternatywne warianty mogą też dotyczyć nie tylko technologii, lecz również np. samego sposobu realizacji przedsięwzięcia, lokalizacji, zidentyfikowanych problemów itp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ole tekstowe 3"/>
          <p:cNvSpPr/>
          <p:nvPr/>
        </p:nvSpPr>
        <p:spPr>
          <a:xfrm>
            <a:off x="250920" y="55897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rostokąt 2"/>
          <p:cNvSpPr/>
          <p:nvPr/>
        </p:nvSpPr>
        <p:spPr>
          <a:xfrm>
            <a:off x="2771640" y="1500120"/>
            <a:ext cx="604836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opisać aktualny stan nauki i techniki dla dziedziny objętej projektem i wykazać potencjał aplikacyjny w kontekście omówionego aktualnego stanu nauki i techniki, uwiarygodnić  zapotrzebowanie na wyniki projektu dla wybranej grupy docelowej odbiorców i udowodnić przewagę rozwiązania w stosunku do dotychczas stosowanyc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będzie podlegało posiadanie odpowiedniego personelu badawczego, odpowiednich warunków technicznych i infrastruktury badawczej. Wskazane podanie wszelkich istotnych dla realizacji projektu informacji dotyczących kwalifikacji i doświadczenia osób, którymi będzie dysponował wykonaw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nioskodawca powinien posiadać odpowiedni potencjał organizacyjny/doświadczenie dotyczące projektów badawczych, prac rozwojowych, wdrożeń innowacyjnych jak również wyspecjalizowaną komórkę organizacyj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ole tekstowe 3"/>
          <p:cNvSpPr/>
          <p:nvPr/>
        </p:nvSpPr>
        <p:spPr>
          <a:xfrm>
            <a:off x="250920" y="5338800"/>
            <a:ext cx="856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  <a:ea typeface="Arial"/>
              </a:rPr>
              <a:t>W przypadku zatrudnienia do całości lub części badań podwykonawcy – wszystkie ww. informacje dotyczące posiadanych kwalifikacji i doświadczenia należy podać również odnośnie zasobów podwykonawc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EFEKTY EKONOMICZ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ole tekstowe 1"/>
          <p:cNvSpPr/>
          <p:nvPr/>
        </p:nvSpPr>
        <p:spPr>
          <a:xfrm>
            <a:off x="179280" y="2060640"/>
            <a:ext cx="8569440" cy="39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W ramach tego kryterium ocenie będzie podlegało, czy wnioskodawca przedstawił potencjał rynkowy wyników projektu i przeanalizował go, wykazał korzyści z zastosowania wyników projektu w praktyce gospodarczej, czy oszacowano ekonomiczne efekty projektu, jak również potencjalne efekty  społeczne, środowiskow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  <a:ea typeface="Calibri"/>
              </a:rPr>
              <a:t>Konieczność poniesienia wydatków na realizację projektu w celu osiągnięcia zakładanych rezultatów projektu (rzeczowego i ekologicznego) powinna zostać wystarczająco uzasadniona, a jednocześnie zakres przedsięwzięcia powinien obejmować wszystkie niezbędne elementy i tym samym gwarantować osiągnięcie zakładanych rezultatów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ole tekstowe 1"/>
          <p:cNvSpPr/>
          <p:nvPr/>
        </p:nvSpPr>
        <p:spPr>
          <a:xfrm>
            <a:off x="108000" y="1773360"/>
            <a:ext cx="88567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B+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, które obejmują wyłącznie prace badawcze i rozwojowe, o których mowa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odpowiednio w art. 2 pkt 3, ppkt. c) i pkt. 4 Ustawy z dnia 30 kwietnia 2010 r. o zasadach finansowania nauki. (Dz.U. 2018, poz. 8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Wydatki uznane za kwalifikowane zostaną również ocenione pod względem ich wysokości – czy są adekwatne do potrzeb projektu, zostały racjonalnie oszacowane i uzasadnione, przedstawiono wiarygodną metodę kalkulacji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br>
              <a:rPr sz="3200"/>
            </a:b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7030a0"/>
                </a:solidFill>
                <a:latin typeface="Calibri"/>
              </a:rPr>
              <a:t>KWALIFIKOWALNOŚĆ I WYSOKOŚĆ WYDATKÓW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ole tekstowe 1"/>
          <p:cNvSpPr/>
          <p:nvPr/>
        </p:nvSpPr>
        <p:spPr>
          <a:xfrm>
            <a:off x="324000" y="2060640"/>
            <a:ext cx="8424720" cy="50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Arial"/>
              </a:rPr>
              <a:t>Wyłączenia w stosunku do zakresu określonego w „Wytycznych (…)” podane są w pkt. 6 pkt. 2) Programu Priorytetowego, odpowiednio dla wniosków dotyczących fazy B+R i fazy 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1f497d"/>
                </a:solidFill>
                <a:uFillTx/>
                <a:latin typeface="Arial"/>
              </a:rPr>
              <a:t>Dla fazy B+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2) Koszty kwalifikowane 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pl-PL" sz="2000" spc="-1" strike="noStrike">
                <a:solidFill>
                  <a:srgbClr val="1f497d"/>
                </a:solidFill>
                <a:latin typeface="Calibri"/>
              </a:rPr>
              <a:t>w fazie B+R </a:t>
            </a:r>
            <a:r>
              <a:rPr b="0" lang="pl-PL" sz="2000" spc="-1" strike="noStrike">
                <a:solidFill>
                  <a:srgbClr val="1f497d"/>
                </a:solidFill>
                <a:latin typeface="Calibri"/>
              </a:rPr>
              <a:t>koszty w ramach kategorii 3.4.3 „Środki trwałe, sprzęt i wyposażenie, wartości niematerialne i prawne”, przeznaczone na zakup wartości niematerialnych i prawnych w formie licencji oraz nieopatentowanej wiedzy technicznej, technologicznej lub z zakresu organizacji i zarządzania, są kosztem kwalifikowanym nie współfinansowanym ze środków NFOŚiGW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Schemat technologiczny innowacyjnej technologii będącej przedmiotem prac badawczo 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inne istot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Wybuch  2 3"/>
          <p:cNvSpPr/>
          <p:nvPr/>
        </p:nvSpPr>
        <p:spPr>
          <a:xfrm>
            <a:off x="3165480" y="2614680"/>
            <a:ext cx="3525840" cy="3397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Elipsa 4"/>
          <p:cNvSpPr/>
          <p:nvPr/>
        </p:nvSpPr>
        <p:spPr>
          <a:xfrm>
            <a:off x="3784680" y="366696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wdroż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Elipsa 16"/>
          <p:cNvSpPr/>
          <p:nvPr/>
        </p:nvSpPr>
        <p:spPr>
          <a:xfrm>
            <a:off x="3508200" y="117000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lipsa 17"/>
          <p:cNvSpPr/>
          <p:nvPr/>
        </p:nvSpPr>
        <p:spPr>
          <a:xfrm>
            <a:off x="6448320" y="2062080"/>
            <a:ext cx="265932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 przynajmniej w jednym wskazanym obszar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lipsa 18"/>
          <p:cNvSpPr/>
          <p:nvPr/>
        </p:nvSpPr>
        <p:spPr>
          <a:xfrm>
            <a:off x="5889600" y="4281480"/>
            <a:ext cx="3254400" cy="18860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czy uzasadniono wybór    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ozwolenie na budowę, prawo do gruntu, obiekty, kosztorys, harmonogram pr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przygotowanie instytucjonalne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niezbędność i  kwalifikacja    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Elipsa 7"/>
          <p:cNvSpPr/>
          <p:nvPr/>
        </p:nvSpPr>
        <p:spPr>
          <a:xfrm>
            <a:off x="749160" y="2459160"/>
            <a:ext cx="2546640" cy="158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Łącznik prosty ze strzałką 8"/>
          <p:cNvCxnSpPr/>
          <p:nvPr/>
        </p:nvCxnSpPr>
        <p:spPr>
          <a:xfrm flipH="1">
            <a:off x="2950560" y="4660560"/>
            <a:ext cx="927720" cy="376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0" name="Łącznik prosty ze strzałką 11"/>
          <p:cNvCxnSpPr/>
          <p:nvPr/>
        </p:nvCxnSpPr>
        <p:spPr>
          <a:xfrm flipH="1" flipV="1">
            <a:off x="3203280" y="3598560"/>
            <a:ext cx="721440" cy="44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1" name="Łącznik prosty ze strzałką 13"/>
          <p:cNvCxnSpPr>
            <a:stCxn id="341" idx="0"/>
          </p:cNvCxnSpPr>
          <p:nvPr/>
        </p:nvCxnSpPr>
        <p:spPr>
          <a:xfrm flipV="1">
            <a:off x="4792320" y="2819160"/>
            <a:ext cx="1080" cy="84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2" name="Łącznik prosty ze strzałką 15"/>
          <p:cNvCxnSpPr/>
          <p:nvPr/>
        </p:nvCxnSpPr>
        <p:spPr>
          <a:xfrm flipV="1">
            <a:off x="5661000" y="3250800"/>
            <a:ext cx="937440" cy="637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53" name="Łącznik prosty ze strzałką 20"/>
          <p:cNvCxnSpPr/>
          <p:nvPr/>
        </p:nvCxnSpPr>
        <p:spPr>
          <a:xfrm>
            <a:off x="5652720" y="4714560"/>
            <a:ext cx="803880" cy="353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54" name="pole tekstowe 22"/>
          <p:cNvSpPr/>
          <p:nvPr/>
        </p:nvSpPr>
        <p:spPr>
          <a:xfrm rot="21013800">
            <a:off x="3184560" y="86652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ole tekstowe 23"/>
          <p:cNvSpPr/>
          <p:nvPr/>
        </p:nvSpPr>
        <p:spPr>
          <a:xfrm rot="388200">
            <a:off x="5783040" y="3819240"/>
            <a:ext cx="34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rostokąt 2"/>
          <p:cNvSpPr/>
          <p:nvPr/>
        </p:nvSpPr>
        <p:spPr>
          <a:xfrm>
            <a:off x="2654280" y="1197000"/>
            <a:ext cx="6310440" cy="43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podlegają założenia i dane będące podstawą wyliczenia efektu ekologicznego – czy są wiarygodne i wskazują na możliwość osiągnięcia wskazanego efektu ekologicznego?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jest to warunek konieczny 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ramach kryterium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 dodatkowo ocenie  punktowej podlegają  ogólnie następujące zagadnienia (szczegółowo sprecyzowane w kryteriach)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korzyści wynikających z zastosowania wyników projektu w praktyce gospodarczej wraz z analizą potencjału rynkowego  rozwiązania będącego wynikiem projektu  -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rawidłowe wypełnienie wniosku w tym zakresie jest konieczne dla uzyskanie minimum punktowego warunkującego pozytywna ocenę w zakresie kryterium</a:t>
            </a:r>
            <a:r>
              <a:rPr b="0" i="1" lang="pl-PL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raz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otencjał wyników projektu w kontekście aktualnego stanu techniki - przewaga proponowanego rozwiązania nad obecnie stosowanymi, uzasadnione zapotrzebowanie rynkowe na wynik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ole tekstowe 3"/>
          <p:cNvSpPr/>
          <p:nvPr/>
        </p:nvSpPr>
        <p:spPr>
          <a:xfrm>
            <a:off x="179280" y="5157720"/>
            <a:ext cx="878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fazie W określamy konkretny efekt ekologiczny, przedstawiamy liczbowo parametry możliwe do osiągnięcia w porównaniu do szeroko obecnie stosowanych rozwiązań oraz sparametryzowaną metodologię jego obliczenia. Potwierdzenie rzeczywistego jego uzyskania spodziewamy się po zakończeniu realizacji przedsięwzię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lipsa 5"/>
          <p:cNvSpPr/>
          <p:nvPr/>
        </p:nvSpPr>
        <p:spPr>
          <a:xfrm>
            <a:off x="14400" y="15001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ma sparametryzowany i uprawdopodobniony efekt ekologicz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– </a:t>
            </a:r>
            <a:r>
              <a:rPr b="1" lang="pl-PL" sz="4200" spc="-1" strike="noStrike">
                <a:solidFill>
                  <a:srgbClr val="00b050"/>
                </a:solidFill>
                <a:latin typeface="Calibri"/>
              </a:rPr>
              <a:t>Efekt ekologiczny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rostokąt 2"/>
          <p:cNvSpPr/>
          <p:nvPr/>
        </p:nvSpPr>
        <p:spPr>
          <a:xfrm>
            <a:off x="900000" y="133020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Uproszczony schemat ideowy określenia efektu ekologicznego w Fazie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rostokąt 1"/>
          <p:cNvSpPr/>
          <p:nvPr/>
        </p:nvSpPr>
        <p:spPr>
          <a:xfrm>
            <a:off x="179280" y="1727280"/>
            <a:ext cx="8785440" cy="1076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Wybór obszaru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. Wybieramy główną cechę wdrażanej innowacji która jednocześnie skutkuje najbardziej efektywnym, miarodajnym, zmniejszeniem oddziaływania na środowisko przynajmniej w jednym ze wskazanych obszarów dzięki wdrożeniu w stosunku do istniejących referencyjnych rozwiązań/instalacji/produktów/procesów. Można wybrać kilka parametrów najlepiej określających przewagi innowacyjnego rozwiąz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rostokąt 6"/>
          <p:cNvSpPr/>
          <p:nvPr/>
        </p:nvSpPr>
        <p:spPr>
          <a:xfrm>
            <a:off x="179280" y="3201840"/>
            <a:ext cx="8785440" cy="148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Metodologia i sparametryzowanie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Przedstawiamy we wniosku propozycję metodologii obliczania, sparametryzowania efektu środowiskowego. Określamy i uzasadniamy i dokumentujemy obciążenie środowiskowe w ramach wybranego obszaru istniejących referencyjnych rozwiązań/instalacji/produktów/procesów w przeliczeniu np. na jednostkę gotowego produktu/jednostkę surowca/czas pracy oraz przedstawiamy liczbowo w podobnych warunkach pracy naszą wdrażaną innowację. Różnicę możemy przedstawić jako spodziewany efekt ekologiczny z jednoczesnym podaniem warunków jego uzyskania: np.: wielkości rocznej produkcji itp. </a:t>
            </a:r>
            <a:r>
              <a:rPr b="1" lang="pl-PL" sz="1400" spc="-1" strike="noStrike">
                <a:solidFill>
                  <a:srgbClr val="ffc000"/>
                </a:solidFill>
                <a:latin typeface="Calibri"/>
              </a:rPr>
              <a:t>Metodologia określenia efektu ekologicznego, jego parametry będą podstawą oceny ekologiczno-technicznej na etapie oceny merytorycznej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rostokąt 7"/>
          <p:cNvSpPr/>
          <p:nvPr/>
        </p:nvSpPr>
        <p:spPr>
          <a:xfrm>
            <a:off x="179280" y="5084640"/>
            <a:ext cx="8785440" cy="1008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1" lang="pl-PL" sz="1400" spc="-1" strike="noStrike">
                <a:solidFill>
                  <a:srgbClr val="ffffff"/>
                </a:solidFill>
                <a:latin typeface="Calibri"/>
              </a:rPr>
              <a:t>Rozliczanie efektu ekologicznego. </a:t>
            </a:r>
            <a:r>
              <a:rPr b="0" lang="pl-PL" sz="1400" spc="-1" strike="noStrike">
                <a:solidFill>
                  <a:srgbClr val="ffffff"/>
                </a:solidFill>
                <a:latin typeface="Calibri"/>
              </a:rPr>
              <a:t>Należy pamiętać, że z przedstawionego efektu należy się rozliczyć po zakończeniu realizacji przedsięwzięcia. Efekt powinien być określony w sposób wiarygodny, gwarantujący jego bezpieczne osiągnięcie a we wniosku powinna być przedstawiona metodyka potwierdzenia jego osiągnięcia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załka w dół 3"/>
          <p:cNvSpPr/>
          <p:nvPr/>
        </p:nvSpPr>
        <p:spPr>
          <a:xfrm>
            <a:off x="3959280" y="2876400"/>
            <a:ext cx="1225440" cy="252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załka w dół 9"/>
          <p:cNvSpPr/>
          <p:nvPr/>
        </p:nvSpPr>
        <p:spPr>
          <a:xfrm>
            <a:off x="3959280" y="4761000"/>
            <a:ext cx="1225440" cy="25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280" y="357120"/>
            <a:ext cx="71391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rostokąt 2"/>
          <p:cNvSpPr/>
          <p:nvPr/>
        </p:nvSpPr>
        <p:spPr>
          <a:xfrm>
            <a:off x="2654280" y="1341360"/>
            <a:ext cx="61657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ie w ramach ww. kryterium podlegaj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enie wyboru przyjętego rozwiązania/technologii (w tym wskazanie obecnego stanu technik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przyjętego rozwiązania (w tym: możliwość utrzymania trwałości rzeczowej i ekologicznej, realistyczny harmonogram wdrażania z uwzględnieniem posiadanych pozwoleń i harmonogramu pozyskiwania pozostałych);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Ocena przygotowania instytucjonalnego do wdrożenia przyjętego rozwiązania (czy możliwe jest sprawne wdrożenie projektu i jego trwałość instytucjonalna - ocena dotyczy również podmiotu upoważnionego do ponoszenia kosztów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zasadniając wybór rozwiązania należy rozważyć rozwiązania alternatywne – uwagi podobnie jak dla fazy B+R.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tym obszarze (pierwszy z ww. tiret)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ole tekstowe 3"/>
          <p:cNvSpPr/>
          <p:nvPr/>
        </p:nvSpPr>
        <p:spPr>
          <a:xfrm>
            <a:off x="324000" y="5619600"/>
            <a:ext cx="84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6600"/>
                </a:solidFill>
                <a:latin typeface="Arial"/>
              </a:rPr>
              <a:t>W uzasadnionych przypadkach należy wyczerpująco uzasadnić brak alternatywnych rozwiązań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rostokąt 2"/>
          <p:cNvSpPr/>
          <p:nvPr/>
        </p:nvSpPr>
        <p:spPr>
          <a:xfrm>
            <a:off x="2654280" y="1674720"/>
            <a:ext cx="61657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ność wdrożenia - brak możliwości utrzymania trwałości rzeczowej i ekologicznej w okresie 5 lat, brak realistycznego harmonogramu wdrażania projektu,  brak wiarygodnych informacji dotyczących prawa do dysponowania gruntami/obiektami na cele inwestycji, niezbędnej dokumentacji technicznej i projektowej, decyzji, uzgodnień, pozwoleń –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negatyw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celu uzyska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ozytywnej oceny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należy spełnić ww. warunki, przy czym odnośnie pozwoleń, decyzji i innych dokumentów – na etapie aplikacyjnym mogą jeszcze wystąpić braki, lecz konieczne jest przedstawienie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realistycznego harmonogramu pozyskiwania pozostałych niezbędnych dokumentó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pełnej gotowości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edsięwzięcia do realizacji, w tym posiadania kompletu niezbędnych dokumentów i uzgodnień – dodatkowe punkty zgodnie z kryteriami,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ocena maksymal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Wykonalność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przedsięwzięcia – 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8000"/>
                </a:solidFill>
                <a:latin typeface="Calibri"/>
              </a:rPr>
              <a:t>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lipsa 10"/>
          <p:cNvSpPr/>
          <p:nvPr/>
        </p:nvSpPr>
        <p:spPr>
          <a:xfrm>
            <a:off x="108000" y="167472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zasadnienie wyboru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Realność wdrożenia przyjętego rozwiązan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Przygotowanie instytucjonal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2"/>
          <p:cNvSpPr/>
          <p:nvPr/>
        </p:nvSpPr>
        <p:spPr>
          <a:xfrm>
            <a:off x="2843280" y="1916280"/>
            <a:ext cx="597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 przypadku braku doświadczenia w realizacji projektów z dziedziny objętej wnioskiem lub podobnych, braku przejrzystej struktury realizacji projektu, potencjału organizacyjnego, przy jednoczesnym braku wykazania możliwości pozyskania odpowiedniego wsparcia zewnętrz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są przyznawane punkty w ramach kryterium. Negatywna ocena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zygotowania instytucjonalnego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nie powoduje jednak odrzucenia wniosk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aksymalna ocena punktowa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 jest przyznawana w przypadku spełnienia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łącznie wszystkich powyższych warunków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, przy czym wymagane doświadczenie musi dotyczyć realizacji </a:t>
            </a:r>
            <a:r>
              <a:rPr b="1" lang="pl-PL" sz="1600" spc="-1" strike="noStrike">
                <a:solidFill>
                  <a:srgbClr val="000000"/>
                </a:solidFill>
                <a:latin typeface="Calibri"/>
              </a:rPr>
              <a:t>minimum 3 projektów z dziedziny objętej wnioskiem </a:t>
            </a: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lub podobnych (możliwe wykazanie odpowiedniego wsparcia zewnętrzneg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5963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ole tekstowe 1"/>
          <p:cNvSpPr/>
          <p:nvPr/>
        </p:nvSpPr>
        <p:spPr>
          <a:xfrm>
            <a:off x="179280" y="1413000"/>
            <a:ext cx="89647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Ocenie podl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niezbędność zakresu przedsięwzięcia dla osiągnięcia efektu ekologicznego, or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ysokość kosztów pod warunkiem zaakceptowania ich kwalifikowalności w poszczególnych kategori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Kwalifikowalność wydatków w fazie 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dsięwzięcia realizowane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w istniejącym lub nowopowstałym przedsiębiorstwie /zakładzie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polegające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ruchomieniu produkcji nowego lub zmodernizowanego wyrobu/technologi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•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wdrożeniu nowej albo znacząco udoskonalonej technologii, które służą poprawie efektywności wykorzystania zasobów naturalnych, zmniejszają negatywny wpływ człowieka na środowisko lub wzmacniają odporność gospodarki na presje środowiskow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Kwalifikowalność kosztów - zgodnie z „Wytycznymi NFOŚiGW w zakresie kosztów kwalifikowanych” znajdującymi się pod adres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Arial"/>
              </a:rPr>
              <a:t>http://nfosigw.gov.pl/download/gfx/nfosigw/pl/nfoopisy/352/3/7/wytyczne_w_zakresie_kosztow_kwalifikowanych.pdf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Arial"/>
              </a:rPr>
              <a:t>z uwzględnieniem zastrzeżeń (wyłączeń) określonych w Programie Priorytet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58560" y="54936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ole tekstowe 1"/>
          <p:cNvSpPr/>
          <p:nvPr/>
        </p:nvSpPr>
        <p:spPr>
          <a:xfrm>
            <a:off x="179280" y="1341360"/>
            <a:ext cx="896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2) Koszty kwalifikowane 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zgodnie z „Wytycznymi NFOŚiGW w zakresie kosztów kwalifikowanych”, z zastrzeżeniem, że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 fazie 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a) w ramach kategorii 3.1 „Przygotowanie przedsięwzięcia” kwalifikuje się tylko „Projekt budowlany i wykonawczy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) wyłącza się koszty kategorii 3.2 „Zarządzanie przedsięwzięciem” z zastrzeżeniem, że kwalifikuje się koszty „Nadzoru inwestorskiego i autorskiego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) wyłącza się koszty kategorii 3.3 „Koszty informacji i promocji”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) wyłącza się koszty kategorii 3.4.1 „Koszt nabycia nieruchomości niezabudowanej, nieruchomości zabudowanej, zakup gruntu”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e) koszty w ramach kategorii 3.4.3 „Środki trwałe, sprzęt i wyposażenie, wartości niematerialne i prawne”, przeznaczone na zakup wartości niematerialnych i prawnych, nie mogą przekraczać 20% sumy pozostałych kosztów kwalifikowanych przedsięwzięc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) wyłącza się koszty kategorii 3.4.4 „Pozostałe koszty”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  </a:t>
            </a:r>
            <a:r>
              <a:rPr b="1" lang="pl-PL" sz="3200" spc="-1" strike="noStrike">
                <a:solidFill>
                  <a:srgbClr val="7030a0"/>
                </a:solidFill>
                <a:latin typeface="Calibri"/>
              </a:rPr>
              <a:t>EFEKTYWNOŚĆ KOSZTOWA – C.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ole tekstowe 1"/>
          <p:cNvSpPr/>
          <p:nvPr/>
        </p:nvSpPr>
        <p:spPr>
          <a:xfrm>
            <a:off x="108000" y="1484280"/>
            <a:ext cx="903600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prócz samej kwalifikowalności kosztów ocenie podlega równi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wysokość poszczególnych kosztów. Negatywna ocena powoduje odrzucenie wniosku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i jest przyznawana w przypadku, gdy wysokość kosztów jest nieadekwatna do zakresu przedsięwzięcia lub metoda kalkulacji jest niewiarygod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Maksymalną ocenę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ożna uzyskać, gdy wysokość kosztów nie budzi wątpliwości, są one adekwatne do zakresu przedsięwzięcia, zostały racjonalnie oszacowane, metodyka kalkulacji jest wiarygodna. W przypadku,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nie spełnia tych warunków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lub też nie przedstawiono we wniosku pełnych informacji w tym zakresie, projekt nie jest odrzucany, uzyskuje mniejszą punktację w ramach kryte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Oceniana jest też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iezbędność zakresu przedsięwzięcia dla osiągnięcia efektu ekologicznego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– zakres rzeczowy nie powinien obejmować elementów zbędnych, które nie są konieczne do osiągnięcia celów projektu, jednocześnie powinien gwarantować osiągnięcie tych celów.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Negatywna ocena powoduje odrzucenie wniosku. Maksymalną punktację można uzyskać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gdy koszty są uzasadnione, adekwatne do celów przedsięwzięcia, racjonalnie oszacowane, przedstawiono wiarygodną metodę kalkulacji, wpisują się w katalog kosztów kwalifikowanych.  Gdy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do 20 % kosztów budzi wątpliwości 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tych aspektach,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cena nadal pozytywna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, mniejsza punktacj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07640" y="620640"/>
            <a:ext cx="6634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W </a:t>
            </a: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206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ole tekstowe 1"/>
          <p:cNvSpPr/>
          <p:nvPr/>
        </p:nvSpPr>
        <p:spPr>
          <a:xfrm>
            <a:off x="0" y="1765440"/>
            <a:ext cx="914400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Obowiązkow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mapa lokalizacyjna inwestycj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chemat technologiczny innowacyjnej technologii będącej   przedmiotem wdrażani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1f497d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1f497d"/>
                </a:solidFill>
                <a:latin typeface="Arial"/>
              </a:rPr>
              <a:t>Studium Wykonalności (opracowane wg wymagań zawartych w Instrukcji             sporządzania Studium Wykonalności dla przedsięwzięcia ubiegającego się o dofinansowanie ze środków NFOŚiGW dostępnej w generatorze wniosk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Arial"/>
              </a:rPr>
              <a:t>Nieobowiązkowe - uzupełniając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plan sytuacyjny (o ile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realizacji prac budowla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harmonogram uzyskiwania zgód administracyjnych (jeśli dotycz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udokumentowanie prawa do dysponowania nieruchomości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wyceny, otrzymane oferty, kosztorys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Arial"/>
              </a:rPr>
              <a:t>dodatkowe dokumenty: zgłoszenia patentowe, licencje, umowy z dostawcami, listy intencyjne potwierdzające zapotrzebowanie na produkt i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0000"/>
                </a:solidFill>
                <a:latin typeface="Calibri"/>
              </a:rPr>
              <a:t>Wypełnianie wniosku w GWD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onieczne jest założenie konta użytkownika. Po zalogowaniu się do generatora dostępne są m.in. instrukcje oraz pomoc kontekstowa, czyli uwagi dotyczące wypełniania wniosku i niezbędnego zakresu informacji w poszczególnych punktach formular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na Kołodzi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050560" y="356760"/>
            <a:ext cx="663588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,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download/gfx/nfosigw/pl/nfoopisy/1815/1/5/pp_wsaprcie_dla_innowacji_19.03.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ybuch  2 19"/>
          <p:cNvSpPr/>
          <p:nvPr/>
        </p:nvSpPr>
        <p:spPr>
          <a:xfrm>
            <a:off x="3030480" y="2614680"/>
            <a:ext cx="3660840" cy="326232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35676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Faza B+R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lipsa 4"/>
          <p:cNvSpPr/>
          <p:nvPr/>
        </p:nvSpPr>
        <p:spPr>
          <a:xfrm>
            <a:off x="3468600" y="3522600"/>
            <a:ext cx="2332080" cy="1441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faza badawczo rozwoj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ipsa 9"/>
          <p:cNvSpPr/>
          <p:nvPr/>
        </p:nvSpPr>
        <p:spPr>
          <a:xfrm>
            <a:off x="395280" y="4429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Czy innowacja j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alibri"/>
              </a:rPr>
              <a:t>- na poziomie regionalnym/</a:t>
            </a: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krajowym/międzynarodowy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produktowa, procesow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lipsa 16"/>
          <p:cNvSpPr/>
          <p:nvPr/>
        </p:nvSpPr>
        <p:spPr>
          <a:xfrm>
            <a:off x="3538440" y="981000"/>
            <a:ext cx="2546280" cy="1816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jest zgodne z: KIS 2, KIS 3, KIS 4, KIS 5, KIS 6, KIS 7, KIS 10, KIS 13, KIS 15?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</a:rPr>
              <a:t>(*) w tym KIS nr 2, 3, 10, 15, 13 – w wybranym zakres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Elipsa 17"/>
          <p:cNvSpPr/>
          <p:nvPr/>
        </p:nvSpPr>
        <p:spPr>
          <a:xfrm>
            <a:off x="6448320" y="2062080"/>
            <a:ext cx="2546280" cy="158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Czy przedsięwzięcie (główny charakter innowacji) w znacznym stopniu prowadzić będzie do znacznego zmniejszenia oddziaływania na środowisk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Elipsa 18"/>
          <p:cNvSpPr/>
          <p:nvPr/>
        </p:nvSpPr>
        <p:spPr>
          <a:xfrm>
            <a:off x="5661000" y="4282920"/>
            <a:ext cx="3422520" cy="19908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uzasadnienie wyboru rozwiązania i zapotrzebowanie rynkowe na wyniki badań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asoby materialne i kadr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-  efekty ekonomicz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wysokość i kwalifikowalność  wydatkó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lipsa 7"/>
          <p:cNvSpPr/>
          <p:nvPr/>
        </p:nvSpPr>
        <p:spPr>
          <a:xfrm>
            <a:off x="727200" y="2349360"/>
            <a:ext cx="2568600" cy="169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Calibri"/>
              </a:rPr>
              <a:t>Kto posiada prawo do innowacj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licencj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zgłoszenie patentow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alibri"/>
              </a:rPr>
              <a:t>umowa, porozumienie, listy intencyj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ole tekstowe 1"/>
          <p:cNvSpPr/>
          <p:nvPr/>
        </p:nvSpPr>
        <p:spPr>
          <a:xfrm rot="732000">
            <a:off x="6460560" y="1561680"/>
            <a:ext cx="26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6600"/>
                </a:solidFill>
                <a:latin typeface="Arial"/>
              </a:rPr>
              <a:t>EFEKT EKOL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ole tekstowe 2"/>
          <p:cNvSpPr/>
          <p:nvPr/>
        </p:nvSpPr>
        <p:spPr>
          <a:xfrm rot="19480200">
            <a:off x="-32400" y="2172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INNOWACYJ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Łącznik prosty ze strzałką 8"/>
          <p:cNvCxnSpPr/>
          <p:nvPr/>
        </p:nvCxnSpPr>
        <p:spPr>
          <a:xfrm flipH="1">
            <a:off x="2941200" y="4581000"/>
            <a:ext cx="843840" cy="38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7" name="Łącznik prosty ze strzałką 11"/>
          <p:cNvCxnSpPr/>
          <p:nvPr/>
        </p:nvCxnSpPr>
        <p:spPr>
          <a:xfrm flipH="1" flipV="1">
            <a:off x="3203640" y="3598560"/>
            <a:ext cx="5814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8" name="Łącznik prosty ze strzałką 13"/>
          <p:cNvCxnSpPr/>
          <p:nvPr/>
        </p:nvCxnSpPr>
        <p:spPr>
          <a:xfrm flipV="1">
            <a:off x="4792320" y="2819160"/>
            <a:ext cx="1080" cy="75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99" name="Łącznik prosty ze strzałką 15"/>
          <p:cNvCxnSpPr/>
          <p:nvPr/>
        </p:nvCxnSpPr>
        <p:spPr>
          <a:xfrm flipV="1">
            <a:off x="5721120" y="3280680"/>
            <a:ext cx="880200" cy="586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0" name="Łącznik prosty ze strzałką 20"/>
          <p:cNvCxnSpPr/>
          <p:nvPr/>
        </p:nvCxnSpPr>
        <p:spPr>
          <a:xfrm>
            <a:off x="5660640" y="4797360"/>
            <a:ext cx="616680" cy="380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1" name="pole tekstowe 22"/>
          <p:cNvSpPr/>
          <p:nvPr/>
        </p:nvSpPr>
        <p:spPr>
          <a:xfrm rot="21013800">
            <a:off x="3489480" y="653760"/>
            <a:ext cx="21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GODNOŚĆ Z 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ole tekstowe 23"/>
          <p:cNvSpPr/>
          <p:nvPr/>
        </p:nvSpPr>
        <p:spPr>
          <a:xfrm rot="388200">
            <a:off x="5783400" y="37177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                </a:t>
            </a: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WYKONALNOŚ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Arial"/>
              </a:rPr>
              <a:t>I EFEKTYWNOŚĆ KOSZ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Wybuch  2 5"/>
          <p:cNvSpPr/>
          <p:nvPr/>
        </p:nvSpPr>
        <p:spPr>
          <a:xfrm rot="1139400">
            <a:off x="4997520" y="2955960"/>
            <a:ext cx="3684600" cy="3279600"/>
          </a:xfrm>
          <a:prstGeom prst="irregularSeal2">
            <a:avLst/>
          </a:prstGeom>
          <a:solidFill>
            <a:srgbClr val="ffff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lipsa 4"/>
          <p:cNvSpPr/>
          <p:nvPr/>
        </p:nvSpPr>
        <p:spPr>
          <a:xfrm>
            <a:off x="5605560" y="4005360"/>
            <a:ext cx="2016000" cy="129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rostokąt 15"/>
          <p:cNvSpPr/>
          <p:nvPr/>
        </p:nvSpPr>
        <p:spPr>
          <a:xfrm>
            <a:off x="0" y="1268280"/>
            <a:ext cx="89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Przez </a:t>
            </a:r>
            <a:r>
              <a:rPr b="1" lang="pl-PL" sz="1800" spc="-1" strike="noStrike" u="sng">
                <a:solidFill>
                  <a:srgbClr val="002060"/>
                </a:solidFill>
                <a:uFillTx/>
                <a:latin typeface="Arial"/>
              </a:rPr>
              <a:t>innowacyjność</a:t>
            </a: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 (wg Podręcznika OSLO - zasady gromadzenia i interpret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danych dotyczących innowacji) należy rozumieć wdrożenie nowego lub znaczą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udoskonalonego produktu (wyrobu lub usługi) lub procesu, nowej met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arketingowej lub nowej metody organizacyjnej w praktyce gospodarczej, organiz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miejsca pracy lub stosunkach z otoczeni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Obraz 1" descr=""/>
          <p:cNvPicPr/>
          <p:nvPr/>
        </p:nvPicPr>
        <p:blipFill>
          <a:blip r:embed="rId1"/>
          <a:stretch/>
        </p:blipFill>
        <p:spPr>
          <a:xfrm>
            <a:off x="339840" y="3622680"/>
            <a:ext cx="2469960" cy="247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Co to jest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rostokąt 15"/>
          <p:cNvSpPr/>
          <p:nvPr/>
        </p:nvSpPr>
        <p:spPr>
          <a:xfrm>
            <a:off x="0" y="1341360"/>
            <a:ext cx="914400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dukt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duktu) to wprowadzenie wyrobu lub usługi, które są nowe lub znacząco udoskonalone w zakresie swoich cech lub zastosowań. Zalicza się tu znaczące udoskonalenia pod względem specyfikacji technicznych, komponentów i materiałów, wbudowanego oprogramowania, łatwości obsługi 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nych cech funkcjonalnych. (…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produktowe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utynowych aktualizacji/moder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regularnych zmian sezonowych (np. w przypadku serii odzież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dostosowywania produktu do potrzeb jednego klienta, które nie obejmuje znacząco odmiennych cech w porównaniu do produktów wyprodukowanych dla innych klien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Innowacja procesowa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w obrębie procesu), to wdrożenie nowej lub znacząco udoskonalonej metody produkcji lub dostarczania. Zalicza się tu znaczące zmiany w zakresie technologii, urządzeń oraz/lub oprogramowania. Innowacje w obrębie procesów mogą mieć za cel obniżenie kosztów jednostkowych produkcji lub dostawy, podniesienie jakości, produkcję bądź dostarczanie nowych lub znacząco udoskonalonych produkt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Innowacje w obrębie procesów nie obejmuj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niewielkich zmian lub ulepszeń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· wzrostu zdolności produkcyjnych lub usługowych uzyskanego dzięki dodan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ystemów produkcyjnych lub logistycznych, które są bardzo podobne do t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stosowanych dotychcz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Jak uzasadnić innowacyjność?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rostokąt 15"/>
          <p:cNvSpPr/>
          <p:nvPr/>
        </p:nvSpPr>
        <p:spPr>
          <a:xfrm>
            <a:off x="179280" y="1268280"/>
            <a:ext cx="878544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Jak uzasadnić innowacyjność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zasadnienie innowacyjności powinno zawierać w szczególnoś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formację, które z elementów linii technologicznej produkcji lub procesu, lub jaka cecha/właściwość wyrobu  są innowacyjne, a które pełnią rolę uzupełniając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nalizę informującą, czy wdrażana/kupowana technologia lub nowy/zmodernizowany wyrób są innowacyjne względem oferty już istniejącej na rynku i na czym ta innowacyjność poleg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•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spis podstaw/źródeł danych, na podstawie których określono stopień innowacyjności technologii/wyrobu, np. podanie tytułów raportów, roczników statystycznych i dat ich wydania, adresów stron internetowych, roczników publikacji itp. oraz wskazaniem miejsca ich dostępności, w celu zweryfikowania z informacjami przedstawio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opinii, z zastrzeżeniem, że podstawą opinii nie mogą być jedynie ogólne teksty reklamowo-opisowe dotyczące wdrażanej/kupowanej technolog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2060"/>
                </a:solidFill>
                <a:latin typeface="Arial"/>
              </a:rPr>
              <a:t>Wa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Kto posiada prawa do danej innowacji? Kto jest jej autor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Czy Wnioskodawca posiada prawa do danej innowacji? Czy innowac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podlega ochronie patentowej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Zależnie od przypadku należy udokumentować powyższe poprzez załączen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2060"/>
                </a:solidFill>
                <a:latin typeface="Arial"/>
              </a:rPr>
              <a:t>oświadczeń, właściwych dokumentów, umów, listów intencyjnych it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002060"/>
                </a:solidFill>
                <a:latin typeface="Calibri"/>
              </a:rPr>
              <a:t>Zasady oceny innowacyjności:</a:t>
            </a:r>
            <a:endParaRPr b="1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Elipsa 4"/>
          <p:cNvSpPr/>
          <p:nvPr/>
        </p:nvSpPr>
        <p:spPr>
          <a:xfrm>
            <a:off x="6443640" y="4722840"/>
            <a:ext cx="2016000" cy="1297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Innowacj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15"/>
          <p:cNvSpPr/>
          <p:nvPr/>
        </p:nvSpPr>
        <p:spPr>
          <a:xfrm>
            <a:off x="468360" y="1773360"/>
            <a:ext cx="8424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ojekt winien dotyczyć innowacji produktowej lub procesowej. W konkursie </a:t>
            </a:r>
            <a:r>
              <a:rPr b="0" lang="pl-PL" sz="1400" spc="-1" strike="noStrike" u="sng">
                <a:solidFill>
                  <a:srgbClr val="002060"/>
                </a:solidFill>
                <a:uFillTx/>
                <a:latin typeface="Arial"/>
              </a:rPr>
              <a:t>nie jest możliwe dofinansowanie projektów, których efektem jest wyłącznie powstanie rozwiązania stanowiącego innowację marketingową lub organizacyjną.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Do oceny kryterium przyjmuje się przywołaną wyżej definicję innowacji określoną w podręczniku OECD Podręcznik Osl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0504d"/>
                </a:solidFill>
                <a:latin typeface="Arial"/>
              </a:rPr>
              <a:t>http://nfosigw.gov.pl/gfx/nfosigw/userfiles/files/srodki_krajowe/2018/sokol/szkolenia/innowacyjnosc_-_definicja_i_zasady_oceny_2.11.20151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ramach przedmiotowego kryterium ocenie podleg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czy rezultat projektu charakteryzuje się innowacyjnością co najmniej w skali polskiego rynku, w kontekście posiadanych przez niego nowych cech, funkcjonalności w porównaniu do rozwiązań dostępnych na polskim ryn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Negatywna ocena kryterium powoduje odrzucenie wnios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n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c0504d"/>
                </a:solidFill>
                <a:latin typeface="Calibri"/>
              </a:rPr>
              <a:t>http://nfosigw.gov.pl/gfx/nfosigw/userfiles/files/srodki_krajowe/programy_2019/v_sokol/opisy_kis_wersja_5_2019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ogłoszeniu o naborze (aktualny dokument) i Programie Priorytetowym (wskazane numery KI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Negatywna ocena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Kołodziej Anna</cp:lastModifiedBy>
  <cp:lastPrinted>2016-08-08T05:02:58Z</cp:lastPrinted>
  <dcterms:modified xsi:type="dcterms:W3CDTF">2019-06-13T08:00:12Z</dcterms:modified>
  <cp:revision>514</cp:revision>
  <dc:subject/>
  <dc:title>Slajd 1</dc:title>
</cp:coreProperties>
</file>